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8A1-C0C7-429A-9C85-F31E9E2C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B15-33C7-4B4E-B05B-3A22544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0F2-B2B4-4880-8478-C2BBD838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BC6-EF5B-4A4D-8697-1F0367F0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389-4413-46E2-AF25-6A08F056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DC0-D125-45C3-AC73-0A8F5CD4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E8F-022A-4A17-A042-ECF5316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5EF-B593-4180-B283-82F3033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2FE-30A3-4F22-B764-C275C0A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3A7-C557-48AD-B895-A2CE402B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1C5-E1B8-4AC8-ACE8-5DA26BED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FD9-2210-461E-950B-7568AFB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39C-8C9C-420E-89CE-9DFCC15B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us of Restart Tests on HWRF-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t-reproducible version of WRF 3.1 fully tested by Zhan Zhang made available on NCEP computer “Vap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l Strategy was to avoid making modifying AOML HWRF-x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d version was ported to AOML/HRD Linux cluster “Ooyam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ilation of this model version resulted in numerous errors due to differences in the operating system and compi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empted to compile on Boulder HPCS computer “W-j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milar compiler errors despite the operating system being similar to the one where tests were initially cond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 solution to conduct tests of the restart capability on NCEP computer “Vapor”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able to compile the model on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OML scripts/code would need to be modified to do any DA tests on this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448000">
            <a:off x="151920" y="3049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969800">
            <a:off x="8065440" y="4687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n Model on Vapor without AOML/HRD code/scripts to confirm restart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it to port model to AOML/HRD computing facilities until after we conduct tests of the restart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AOML/HRD DA system with the  updat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5Z</dcterms:created>
  <dc:creator>sellwood</dc:creator>
  <dc:description/>
  <dc:language>en-US</dc:language>
  <cp:lastModifiedBy>sellwood</cp:lastModifiedBy>
  <dcterms:modified xsi:type="dcterms:W3CDTF">2009-10-14T18:40:19Z</dcterms:modified>
  <cp:revision>7</cp:revision>
  <dc:subject/>
  <dc:title>Status of Restart Tests on HWRF-x</dc:title>
</cp:coreProperties>
</file>